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228600" y="0"/>
              <a:ext cx="8915400" cy="6858000"/>
              <a:chOff x="228600" y="0"/>
              <a:chExt cx="8915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1430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6002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574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5146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718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4290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8862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3434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8006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52578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57150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61722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66294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0866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5438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0010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4582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9154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1440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858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228600" y="0"/>
                <a:ext cx="0" cy="6858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" name="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3716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6002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20574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22860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25146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7432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29718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2004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4290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6576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862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41148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43434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45720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48006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50292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52578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54864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57150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61722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64008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6858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4572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228600"/>
              <a:ext cx="91440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01:12:40Z</dcterms:created>
  <dc:creator>DOE</dc:creator>
  <dc:description/>
  <dc:language>en-US</dc:language>
  <cp:lastModifiedBy>kworrell</cp:lastModifiedBy>
  <dcterms:modified xsi:type="dcterms:W3CDTF">2006-04-20T00:17:57Z</dcterms:modified>
  <cp:revision>1</cp:revision>
  <dc:subject/>
  <dc:title>Slide 1</dc:title>
</cp:coreProperties>
</file>